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AAD-8CE2-4BC7-917A-4C8B5C62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105-605B-4B9A-987C-FA4E634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161-0788-4B92-9117-86D28081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E4B-7A6A-4661-97F4-EE76B669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253-F075-4A24-91D9-02F3500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DDE-95BE-4311-8AD0-0EAFBF72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7D2-55CB-4749-B34F-85E47FB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5FA-F5E5-406C-93D0-D161A80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DAD-A006-42BB-8192-A8A02B7D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0EF-8824-4AC3-82B7-1CE0F15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BC8-D952-40F8-B877-399D354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9D0-BB03-4801-93CA-F7F6472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B964-2F72-4F10-AC6F-878E0CB2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Movement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Modifications to Prevent Water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ly on leaf bottom -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o direct ligh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evapora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s - trap moisture, help prevent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124080" y="32004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- allows water to enter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- forces that allow water to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up through xy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hesion, surface tens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 - process by which plants 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throug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enters leaf through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leaves xylem &amp; enters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evaporates from wet cell surface = 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diffuses into airspaces of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passes out into air through 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iration (continu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more water moves in to replace lost water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tinuous process that helps pull wat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ough the plant &amp; cools the lea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*Over 90% of water taken in by plants is los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ough the process of tra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Tran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by guard cells &amp; 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uard cells take in water through osmosis = increased turgor pressure (guard cells swell &amp;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uard cells lose water through osmosis/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uard cells shrink &amp; c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Transpi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are open during the day - take in carbon dioxide for photosynthesis; stomata close at night but on a hot, dry day, they may close to prevent excessive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 Affecting Water Lo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ity - rate of water los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umidity levels are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- rate of water loss incr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windy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vaporation rate increas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 Affecting Water Lo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- rate of water loss incr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emperature goes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increased rat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- rate of water loss increases as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; due to incr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Modifications to Prevent Water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leaves - reduced surface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water lo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urled leaves, needles, or sp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ulents - thick, fleshy leave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oe vera, j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56:47Z</dcterms:created>
  <dc:creator>Clayton Johns</dc:creator>
  <dc:description/>
  <dc:language>en-US</dc:language>
  <cp:lastModifiedBy>Clayton Johns</cp:lastModifiedBy>
  <dcterms:modified xsi:type="dcterms:W3CDTF">2010-05-06T12:47:35Z</dcterms:modified>
  <cp:revision>4</cp:revision>
  <dc:subject/>
  <dc:title>Water Movement In Plants</dc:title>
</cp:coreProperties>
</file>